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B3B8-F246-4131-9A03-247256CC3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C6AD-6EAA-4B26-88D6-275B79AB4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FA44-B994-429A-B0DD-6E0109B1F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9477-42AD-42BA-8904-DE0BD7FD6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6EDA-1C89-4FC3-9509-629BD9B2B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CA71-E428-4703-9B9C-76D4CB03E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369C-29EA-4D2B-9622-E4A324673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C2CC-2DA4-4B4A-AA34-499EFB2DF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3014-6B26-44F4-A4DC-DBB8E9A44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BE95-F69A-4F10-9071-8B429A583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5B6E-04FB-4B75-A080-9D70EA48E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2C6C-BC13-4727-9D99-F07CDD19E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ACB84-612A-4095-A5AB-563565B5A4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MIJLOACE DE MĂSURARE</a:t>
            </a: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pentru cultură de specialitate pentru Şcolile de Arte şi Meserii – domeniul mecanic- clasa a IX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-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Adriana Popescu)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457200" y="228600"/>
            <a:ext cx="80010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- SIMULAR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42674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200" spc="-1" strike="noStrike">
                <a:solidFill>
                  <a:srgbClr val="000000"/>
                </a:solidFill>
                <a:latin typeface="Arial"/>
              </a:rPr>
              <a:t>Mijloacele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e măsurare reprezintă totalitatea mijloacelor tehnice cu care se determină cantitativ mărimea de măsurat.</a:t>
            </a:r>
            <a:r>
              <a:rPr b="1" i="1" lang="ro-RO" sz="1200" spc="-1" strike="noStrike">
                <a:solidFill>
                  <a:srgbClr val="000000"/>
                </a:solidFill>
                <a:latin typeface="Arial"/>
              </a:rPr>
              <a:t> Şabloanele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unt măsuri terminale executate din tablă cu diferite profile, în funcție de piesele care se controlează.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Micrometrul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e un aparat la care deplasările unghiulare se transform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în deplasări liniare și care este utilizat pentru măsurarea lungimilor.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200" spc="-1" strike="noStrike">
                <a:solidFill>
                  <a:srgbClr val="000000"/>
                </a:solidFill>
                <a:latin typeface="Arial"/>
              </a:rPr>
              <a:t>Lungimea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este o mărime fizică fundamentală în Sistemul Internaţion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Unitatea de măsură pentru lungime este metrul, m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200" spc="-1" strike="noStrike">
                <a:solidFill>
                  <a:srgbClr val="000000"/>
                </a:solidFill>
                <a:latin typeface="Arial"/>
              </a:rPr>
              <a:t>Sticla plan-paralelă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este o măsură terminală cu valoare unică, din sticlă, cu suprafeţe plane şi paralele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Calele plan-parale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sunt măsuri terminale a căror mărime este determinată de distanţa dintre două suprafeţe de măsurare plane şi paralele. 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tilizarea calelor se bazează pe proprietatea lor de a adera una pe alta, pe suprafeţele de măsurare, printr-o uşoară apăsare şi o mişcare tangenţială de deplasare, formându-se un </a:t>
            </a: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bloc de cale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, care poate avea orice dimensiune. Dimensiunea blocului de cale este egală cu suma lungimilor calelor componente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8" descr=""/>
          <p:cNvPicPr/>
          <p:nvPr/>
        </p:nvPicPr>
        <p:blipFill>
          <a:blip r:embed="rId1"/>
          <a:stretch/>
        </p:blipFill>
        <p:spPr>
          <a:xfrm>
            <a:off x="5257800" y="1752480"/>
            <a:ext cx="294336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Clasificarea calibrelor neted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upă piesa pe care o controlează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2193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libre pentru arbor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2193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libre pentru alezaj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upă diametrul limită care verifică piese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2193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libre </a:t>
            </a: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partea trece T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2193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libre partea </a:t>
            </a: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nu trece NT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 […]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upă destinaţi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2193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libre de luc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2193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libre de 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2193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libre de recepţ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2193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ntracalib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Admin</cp:lastModifiedBy>
  <dcterms:modified xsi:type="dcterms:W3CDTF">2010-01-19T07:36:03Z</dcterms:modified>
  <cp:revision>21</cp:revision>
  <dc:subject/>
  <dc:title>MIJLOACE DE MĂSURAR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